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536E-87DC-4AEF-895D-434BAA2E54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2F99-8165-414E-A6E3-BA9943D3937F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EC3F-7434-474B-9302-6099CE9A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CF83-B781-44F4-8BC8-0DE4210C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976B-E174-4E9D-9655-B73E7698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79F0-D933-446F-9259-B6B44EF66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EC11-65ED-4C5D-90DD-283F5803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5F28-3104-4232-AFE8-B4DA4262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91D4-5628-45A4-B3E2-F1CB82C9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6C05-7B87-46B8-B0C9-CB7D9E93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44C4-765A-45F6-B931-56D799DD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3340-1527-442D-A275-C88E288B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D9F0-CB6A-40D4-84FE-1C1AFE78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EA3A-FE6E-4B7B-8860-FCF1E06A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F6ED-3515-40E1-AF2E-65648AE3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8762-39E4-4426-AE5A-7107202D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7396-30A8-426E-84C3-7CB94AF7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10C2-EB62-4305-B9EB-4D793D5FF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D68F-5349-4ACE-9A4A-8237AC82B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E0855-580B-4954-9AFF-0D073533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2B5F8-372A-4083-9BFD-2E563826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E6C8E-6BE7-4A4C-A697-488E080C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2995C-93CB-453A-BB46-EC025847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2F25B-66B7-4F82-97F3-12451D8A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B825-DBBC-4F62-B140-217DC7AF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7E84C-562D-49AF-A60F-A829FB1F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C1156-3976-432C-9CB0-B1B3C3D9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416B4-7D6C-4F4A-BD4A-7D0EA8BC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A3467-ADCF-48AF-BA89-3E7AC053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9103E-5F86-4B20-9405-26C2B104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B55B9-3B59-4A57-8BA7-5D3F02C1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58C67-DEB7-41F0-A7A1-D41BFBB72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A8D9A-B4AA-4168-B1AC-66779966B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2EFD5-5A1B-48C4-900F-785B703A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39F23-5408-423B-A361-28BE3C00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4895-8B3E-410C-8CE2-781212D8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487B0-5288-49C9-9261-B322654A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05D9B-D532-4D51-80B8-0DF8ECE3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EA2EF-D3A5-4795-97CC-4DFAFEB6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35C9F-5C7B-4D79-B91D-2C34AC5F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B9991-659B-46C3-8667-19C88F75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B8785-9CF7-4A48-9B8A-2DCE8D9C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3910F-86F8-4225-91D0-D5551C4C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BAD32-021C-4355-AC4C-D164C605C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2D450-E44E-447E-A2D0-08C245052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6A546-E296-4816-83A3-CDA7378F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EF05-86F9-4837-9DD3-6357D9E7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550B7-1887-4D2C-93AB-95AED2CC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0FBD2-6C4F-4CBD-9347-4C9226C6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B51FB-9192-4F2D-9C43-7C1F6DFE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7D743-9739-45E8-ACBD-C7F7D17E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D8370-7E1E-4E20-93DA-AAA389B2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C3C2D-2007-456B-ADBF-E66C1197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8D846-68B0-4937-99F1-416C9C8D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D8252-993E-4E16-9BDA-F045EC20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DA1F7-4775-4A7C-9179-ACB23313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52F01-3F19-4CA7-95F7-06F9770FD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834F-BCA4-4318-BDCA-05B7E6AF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A2114-4E82-46A3-AD54-A0D8FA018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6A2AC-7B34-4C51-8CD9-3B24606C1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A6559-E3DD-4F82-AB32-C54CD3AF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556DB-D037-4A4B-B42C-2F61F72E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6790D-1EC9-48FB-ACF7-6ADED759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2E9AF-845A-44A1-9D0A-EE3A18F9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947DB-54A2-431E-B5AF-50ACC8FC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C855E-09EE-4A13-946F-B618B34F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F0D65-B8D5-47B3-ADF4-71D8E55E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599BA-325E-4AC4-93B0-F1670097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42BA-EFA6-4443-9A2C-14396EEE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4CB28-475A-4004-A210-03228829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DA513-E995-477F-9C22-7BD52DC7D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B3D95-DAD5-41ED-90B9-CDEF44753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A8AE-C1CC-476C-ACC6-21783A0D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C089-6BD3-40A3-A1EC-C0B049CF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C48E-1A2B-4BFD-9A7C-497F2D13832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403B-4BF7-4C1B-977E-60399511408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80DE-B005-4007-997D-F008982E7F5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98CA-588A-4343-AE92-F4673AED017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5852-B6D6-48F3-872B-5E88C5691F0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8ED2-1398-478C-81F8-E53CB615B04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507816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4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оздание в школах, расположенных в сельской местности, условий для занятий физической культурой и спорто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46Z</dcterms:modified>
  <cp:revision>161</cp:revision>
  <dc:subject/>
  <dc:title>Структура собственных доходов на 2016 год бюджета Дальнереченского городского округа</dc:title>
</cp:coreProperties>
</file>